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144-2DC4-4661-AED4-2A5E3FDA7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6FE-52B7-4C0B-9E1E-8D810653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688-7065-4986-A6C4-63B76A39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E77-EC4A-4110-8840-7CB850C1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06D3-31F8-400B-ACD2-250A95E0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0EFE-E642-44AB-AAC6-85BA4B8B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5FC6-C55A-4150-A1EC-41C517A1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A11C-813F-42EE-9CAB-8A477C95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B9FA-35FE-40DC-A932-1326FD68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B114-4E24-4F2F-9D32-5C76317E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7A97-8888-4756-9507-F9FEA67D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2DCA-2160-41E9-A18F-8B8677ED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E97B-3F75-484C-9557-C05EAE37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7313-B17B-4CBA-9A6B-D4CAFC66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1495-C58E-401D-B32F-A579C1F9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21D3-73BB-4393-A8F8-FC4FF8DB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DB2D-80B4-4D49-B096-34E8061C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982-9700-40B0-96C0-801E8698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DFAE-77FD-45EE-9F7B-EBC047CC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CFD-697E-45A1-A6AD-C9D5A1C3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75F-C854-46E5-84BB-6FE5B595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9EB-EE13-458A-BA94-1AFC273E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32A-0BF9-4670-8DB9-C064EBEF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2901-4882-4FA6-9917-A0FFC057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CC91-6F0E-4E91-BE90-3FBF2783BD1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5BD4-55A5-414B-A1A7-ED8515F4B16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бота выполнена в рамках проекта «Повышение квалификации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зличных категорий работников образования и формирования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у них базовой педагогической ИКТ-компетентости» по программе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«Информационные технологии в деятельности учителя-предметника»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5" descr="logo_phpBB"/>
          <p:cNvPicPr/>
          <p:nvPr/>
        </p:nvPicPr>
        <p:blipFill>
          <a:blip r:embed="rId2"/>
          <a:stretch/>
        </p:blipFill>
        <p:spPr>
          <a:xfrm>
            <a:off x="7885080" y="404640"/>
            <a:ext cx="934920" cy="8812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2124000" y="1989000"/>
            <a:ext cx="430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-5 клас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2997360"/>
            <a:ext cx="4752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вто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ннотация к выпускной работ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Тематическое планиров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рок: Геометрические тел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лан уро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63360" y="481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Скругленный прямоугольник 8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716000" y="549000"/>
            <a:ext cx="397044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ъем прямоугольного параллелепипед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a·b·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3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с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с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24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24000" y="1989000"/>
            <a:ext cx="3671640" cy="424836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258920" y="1988640"/>
            <a:ext cx="79200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6"/>
          <p:cNvSpPr/>
          <p:nvPr/>
        </p:nvSpPr>
        <p:spPr>
          <a:xfrm flipV="1">
            <a:off x="2124000" y="1988640"/>
            <a:ext cx="79236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755640" y="2421000"/>
            <a:ext cx="2808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125892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212400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324000" y="3645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324000" y="4437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324000" y="5445000"/>
            <a:ext cx="2735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3132000" y="278100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4"/>
          <p:cNvSpPr/>
          <p:nvPr/>
        </p:nvSpPr>
        <p:spPr>
          <a:xfrm flipV="1">
            <a:off x="3059280" y="3573360"/>
            <a:ext cx="936360" cy="935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5"/>
          <p:cNvSpPr/>
          <p:nvPr/>
        </p:nvSpPr>
        <p:spPr>
          <a:xfrm flipV="1">
            <a:off x="3132000" y="450828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3564000" y="242100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971640" y="63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=3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3722040" y="56768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=2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3995640" y="3213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4091040" y="39481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=4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6237000" y="472428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тог урока –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-анализ те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7" name="Picture 5" descr="02"/>
          <p:cNvPicPr/>
          <p:nvPr/>
        </p:nvPicPr>
        <p:blipFill>
          <a:blip r:embed="rId1"/>
          <a:stretch/>
        </p:blipFill>
        <p:spPr>
          <a:xfrm>
            <a:off x="1258920" y="170028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Аннотация к выпускной  работ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8317440" y="1413000"/>
            <a:ext cx="17137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ыть использованы при объяснени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вого материала по теме «геометр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ла» 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18728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112536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 бы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ользованы для объяснения новог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атериала по теме «геометрические тела» в 5 клас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зависимости от формы урока слай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но использовать выбороч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и же слайды можно применя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уроках стереометрии в 10 и 11 класс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 к уроку можно использова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10 классе в теме «Многогранник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качестве инструментальных средств для подготовки к уроку были использованы компьютерные программы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 Power Point, Microsoft Wor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ffice Picture Manag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ы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бник «Математика» (5кл.), авт. Зубарева, Мордкович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http://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artavaleha.com/uploads/posts/1167778609_konus_07.jp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http://paint.dn.ua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/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 автор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2708280"/>
            <a:ext cx="7488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, Бурухина Наталия Александровна, работа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чительницей матема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экономики в школе №11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ж работы – 35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сшая категор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Отличник народного просвещения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IMG_4618"/>
          <p:cNvPicPr/>
          <p:nvPr/>
        </p:nvPicPr>
        <p:blipFill>
          <a:blip r:embed="rId1"/>
          <a:stretch/>
        </p:blipFill>
        <p:spPr>
          <a:xfrm>
            <a:off x="5724360" y="0"/>
            <a:ext cx="370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грамм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туральные чис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ыкновен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еометрические фигу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сятич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cc00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Геометрические тел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ведение в вероят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еометрические тела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(7 уроков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848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-ый урок: «Геометрические тел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ль: познакомить учащихся 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ассификацией геометрически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л и подробнее – с прямоугольны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аллелепипед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лан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екц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)предмет стереометри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)классификация геометрических тел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)прямоугольный параллелепипед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го развертка 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)объем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I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Тест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ла, поверхность которых состоит и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ногоугольников, называются </a:t>
            </a: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многогранникам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ример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0000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ирами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4"/>
          <p:cNvSpPr/>
          <p:nvPr/>
        </p:nvSpPr>
        <p:spPr>
          <a:xfrm flipH="1">
            <a:off x="6011280" y="551664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ямоугольн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раллелепипе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420840" y="2349360"/>
            <a:ext cx="2179440" cy="316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2128680" cy="33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3276720" y="551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из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19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1800360" cy="304956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4400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ла, ограниченные не только плоскими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верхностями, называются круглыми телами.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пример: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DSC00448"/>
          <p:cNvPicPr/>
          <p:nvPr/>
        </p:nvPicPr>
        <p:blipFill>
          <a:blip r:embed="rId1"/>
          <a:stretch/>
        </p:blipFill>
        <p:spPr>
          <a:xfrm>
            <a:off x="250920" y="1989000"/>
            <a:ext cx="1763640" cy="181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987792"/>
          <p:cNvPicPr/>
          <p:nvPr/>
        </p:nvPicPr>
        <p:blipFill>
          <a:blip r:embed="rId2"/>
          <a:stretch/>
        </p:blipFill>
        <p:spPr>
          <a:xfrm>
            <a:off x="6156360" y="2060640"/>
            <a:ext cx="2665440" cy="1771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68360" y="40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3564000" y="414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у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948360" y="40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а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15" descr="1167778609_konus_07"/>
          <p:cNvPicPr/>
          <p:nvPr/>
        </p:nvPicPr>
        <p:blipFill>
          <a:blip r:embed="rId3"/>
          <a:stretch/>
        </p:blipFill>
        <p:spPr>
          <a:xfrm>
            <a:off x="3059280" y="1844640"/>
            <a:ext cx="22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окружающей обстановке мног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дметы имеют форму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4" descr="13"/>
          <p:cNvPicPr/>
          <p:nvPr/>
        </p:nvPicPr>
        <p:blipFill>
          <a:blip r:embed="rId1"/>
          <a:stretch/>
        </p:blipFill>
        <p:spPr>
          <a:xfrm>
            <a:off x="826920" y="2997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5796000" y="28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ре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796000" y="350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ир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867280" y="429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5940360" y="50133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л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665964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3419640" y="3645000"/>
            <a:ext cx="2232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25"/>
          <p:cNvSpPr/>
          <p:nvPr/>
        </p:nvSpPr>
        <p:spPr>
          <a:xfrm flipH="1">
            <a:off x="3924360" y="4508640"/>
            <a:ext cx="1800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26"/>
          <p:cNvSpPr/>
          <p:nvPr/>
        </p:nvSpPr>
        <p:spPr>
          <a:xfrm flipH="1">
            <a:off x="2268360" y="5229360"/>
            <a:ext cx="3456000" cy="21564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6804000" y="3500280"/>
            <a:ext cx="360360" cy="2016360"/>
          </a:xfrm>
          <a:custGeom>
            <a:avLst/>
            <a:gdLst>
              <a:gd name="textAreaLeft" fmla="*/ 0 w 360360"/>
              <a:gd name="textAreaRight" fmla="*/ 129960 w 360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7308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1372680" y="4437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ран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31"/>
          <p:cNvSpPr/>
          <p:nvPr/>
        </p:nvSpPr>
        <p:spPr>
          <a:xfrm flipV="1">
            <a:off x="900000" y="5444640"/>
            <a:ext cx="358920" cy="5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32"/>
          <p:cNvSpPr/>
          <p:nvPr/>
        </p:nvSpPr>
        <p:spPr>
          <a:xfrm flipV="1">
            <a:off x="900000" y="3715920"/>
            <a:ext cx="358920" cy="23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708480" y="5950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ршин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этим насекомым найти сам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откий путь друг к другу п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ерхности тел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324000" y="2276640"/>
            <a:ext cx="2303280" cy="172692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  <a:effectLst>
            <a:outerShdw dist="107932" dir="135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79280" y="256536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2484360" y="3429000"/>
            <a:ext cx="28728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6692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3856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514656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02000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5146560" y="285264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148360" y="544500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2124000" y="407664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003640" y="5300640"/>
            <a:ext cx="28764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2268360" y="4221000"/>
            <a:ext cx="2808360" cy="1152720"/>
          </a:xfrm>
          <a:prstGeom prst="line">
            <a:avLst/>
          </a:prstGeom>
          <a:ln w="284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4643280" y="1557360"/>
            <a:ext cx="3792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Эта фигура называ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звертк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11280" y="5589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Этот путь – самый коротк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6:42:17Z</dcterms:created>
  <dc:creator>web</dc:creator>
  <dc:description/>
  <dc:language>en-US</dc:language>
  <cp:lastModifiedBy>Owner</cp:lastModifiedBy>
  <dcterms:modified xsi:type="dcterms:W3CDTF">2011-06-13T14:45:41Z</dcterms:modified>
  <cp:revision>34</cp:revision>
  <dc:subject/>
  <dc:title>Слайд 1</dc:title>
</cp:coreProperties>
</file>